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D975-FD07-444A-BBB9-E98109A0E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643-4367-44F4-AA8E-A99EA65C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4DD2-8587-4F92-8E8E-A4808B66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C6E-9C90-428C-BCB8-FB05D7F72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242B-1833-44C4-BE3F-6EF90ECD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4348-0736-43C2-AD9C-8AE2E899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0AD6-CCA8-4651-BE47-F182335A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E7DA-E479-405F-933E-306C31FB9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EE2-2CFF-4A21-BAB2-84976DC8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DBE4-253F-4B10-ABFE-211140C9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EB4-5F9D-47BE-9320-668B8624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5AF-17B6-4980-9E39-8EF3F374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74C8-41FE-4FCC-814F-83B9AB459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5.jpe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6.png"/><Relationship Id="rId12" Type="http://schemas.openxmlformats.org/officeDocument/2006/relationships/image" Target="../media/image5.jpe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73360" y="-917640"/>
          <a:ext cx="1836720" cy="8694720"/>
        </p:xfrm>
        <a:graphic>
          <a:graphicData uri="http://schemas.openxmlformats.org/drawingml/2006/table">
            <a:tbl>
              <a:tblPr/>
              <a:tblGrid>
                <a:gridCol w="183672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4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in, Texas, United Sta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5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8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2" name=""/>
          <p:cNvGraphicFramePr/>
          <p:nvPr/>
        </p:nvGraphicFramePr>
        <p:xfrm>
          <a:off x="1782720" y="-907920"/>
          <a:ext cx="1817640" cy="3193920"/>
        </p:xfrm>
        <a:graphic>
          <a:graphicData uri="http://schemas.openxmlformats.org/drawingml/2006/table">
            <a:tbl>
              <a:tblPr/>
              <a:tblGrid>
                <a:gridCol w="570960"/>
                <a:gridCol w="216000"/>
                <a:gridCol w="1030680"/>
              </a:tblGrid>
              <a:tr h="31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Maps &amp; Direc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                                           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" name="" descr="Back to MSN Maps &amp; Directions"/>
          <p:cNvPicPr/>
          <p:nvPr/>
        </p:nvPicPr>
        <p:blipFill>
          <a:blip r:embed="rId1"/>
          <a:stretch/>
        </p:blipFill>
        <p:spPr>
          <a:xfrm>
            <a:off x="1903320" y="1835280"/>
            <a:ext cx="628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Featuring Microsoft MapPoint Technology"/>
          <p:cNvPicPr/>
          <p:nvPr/>
        </p:nvPicPr>
        <p:blipFill>
          <a:blip r:embed="rId2"/>
          <a:stretch/>
        </p:blipFill>
        <p:spPr>
          <a:xfrm>
            <a:off x="2666880" y="1879560"/>
            <a:ext cx="1314720" cy="257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Map"/>
          <p:cNvPicPr/>
          <p:nvPr/>
        </p:nvPicPr>
        <p:blipFill>
          <a:blip r:embed="rId3"/>
          <a:stretch/>
        </p:blipFill>
        <p:spPr>
          <a:xfrm>
            <a:off x="0" y="1440"/>
            <a:ext cx="9144000" cy="6913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3531600">
            <a:off x="2475720" y="3643200"/>
            <a:ext cx="304920" cy="219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 rot="20400600">
            <a:off x="2742840" y="3504960"/>
            <a:ext cx="304920" cy="152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 rot="3531600">
            <a:off x="3471480" y="3319560"/>
            <a:ext cx="304560" cy="21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 rot="3531600">
            <a:off x="3690720" y="3243240"/>
            <a:ext cx="304920" cy="218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2971440" y="4695840"/>
            <a:ext cx="762120" cy="7621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447560" y="2514600"/>
            <a:ext cx="685800" cy="6094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04560" y="1981080"/>
            <a:ext cx="685800" cy="838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9435800">
            <a:off x="2125080" y="396180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tro Center D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746600">
            <a:off x="3354840" y="3879360"/>
            <a:ext cx="103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Riverside D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81280" y="3429000"/>
            <a:ext cx="533520" cy="3808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36960" y="3124080"/>
            <a:ext cx="152280" cy="304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3733920"/>
            <a:ext cx="1066680" cy="533160"/>
          </a:xfrm>
          <a:custGeom>
            <a:avLst/>
            <a:gdLst/>
            <a:ahLst/>
            <a:rect l="l" t="t" r="r" b="b"/>
            <a:pathLst>
              <a:path w="672" h="336">
                <a:moveTo>
                  <a:pt x="672" y="0"/>
                </a:moveTo>
                <a:cubicBezTo>
                  <a:pt x="556" y="128"/>
                  <a:pt x="440" y="256"/>
                  <a:pt x="384" y="288"/>
                </a:cubicBezTo>
                <a:cubicBezTo>
                  <a:pt x="328" y="320"/>
                  <a:pt x="400" y="184"/>
                  <a:pt x="336" y="192"/>
                </a:cubicBezTo>
                <a:cubicBezTo>
                  <a:pt x="272" y="200"/>
                  <a:pt x="136" y="268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4190400"/>
            <a:ext cx="121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mfort Suites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386-6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8800" y="4631760"/>
            <a:ext cx="117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eriSuites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386-7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86200" y="3429000"/>
            <a:ext cx="1752480" cy="406440"/>
          </a:xfrm>
          <a:custGeom>
            <a:avLst/>
            <a:gdLst/>
            <a:ahLst/>
            <a:rect l="l" t="t" r="r" b="b"/>
            <a:pathLst>
              <a:path w="1104" h="256">
                <a:moveTo>
                  <a:pt x="0" y="0"/>
                </a:moveTo>
                <a:cubicBezTo>
                  <a:pt x="280" y="112"/>
                  <a:pt x="560" y="224"/>
                  <a:pt x="672" y="240"/>
                </a:cubicBezTo>
                <a:cubicBezTo>
                  <a:pt x="784" y="256"/>
                  <a:pt x="600" y="120"/>
                  <a:pt x="672" y="96"/>
                </a:cubicBezTo>
                <a:cubicBezTo>
                  <a:pt x="744" y="72"/>
                  <a:pt x="1032" y="88"/>
                  <a:pt x="110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4520" y="3428280"/>
            <a:ext cx="1299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wthorne Suites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247-61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57600" y="3505320"/>
            <a:ext cx="2133720" cy="1155600"/>
          </a:xfrm>
          <a:custGeom>
            <a:avLst/>
            <a:gdLst/>
            <a:ahLst/>
            <a:rect l="l" t="t" r="r" b="b"/>
            <a:pathLst>
              <a:path w="1344" h="728">
                <a:moveTo>
                  <a:pt x="0" y="0"/>
                </a:moveTo>
                <a:cubicBezTo>
                  <a:pt x="272" y="308"/>
                  <a:pt x="544" y="616"/>
                  <a:pt x="672" y="672"/>
                </a:cubicBezTo>
                <a:cubicBezTo>
                  <a:pt x="800" y="728"/>
                  <a:pt x="656" y="368"/>
                  <a:pt x="768" y="336"/>
                </a:cubicBezTo>
                <a:cubicBezTo>
                  <a:pt x="880" y="304"/>
                  <a:pt x="1112" y="392"/>
                  <a:pt x="1344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4880" y="3961800"/>
            <a:ext cx="1581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ampton Inn &amp; Suites*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512) 389-16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8">
            <a:lum bright="6000"/>
          </a:blip>
          <a:stretch/>
        </p:blipFill>
        <p:spPr>
          <a:xfrm rot="19839000">
            <a:off x="2723760" y="3613320"/>
            <a:ext cx="609480" cy="247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35160" y="3809880"/>
            <a:ext cx="177840" cy="533520"/>
          </a:xfrm>
          <a:custGeom>
            <a:avLst/>
            <a:gdLst/>
            <a:ahLst/>
            <a:rect l="l" t="t" r="r" b="b"/>
            <a:pathLst>
              <a:path w="112" h="336">
                <a:moveTo>
                  <a:pt x="56" y="336"/>
                </a:moveTo>
                <a:cubicBezTo>
                  <a:pt x="28" y="300"/>
                  <a:pt x="0" y="264"/>
                  <a:pt x="8" y="240"/>
                </a:cubicBezTo>
                <a:cubicBezTo>
                  <a:pt x="16" y="216"/>
                  <a:pt x="96" y="216"/>
                  <a:pt x="104" y="192"/>
                </a:cubicBezTo>
                <a:cubicBezTo>
                  <a:pt x="112" y="168"/>
                  <a:pt x="72" y="128"/>
                  <a:pt x="56" y="96"/>
                </a:cubicBezTo>
                <a:cubicBezTo>
                  <a:pt x="40" y="64"/>
                  <a:pt x="24" y="32"/>
                  <a:pt x="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9188600">
            <a:off x="2515320" y="4114080"/>
            <a:ext cx="121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20 Metro Center D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657600"/>
            <a:ext cx="1219320" cy="1066680"/>
          </a:xfrm>
          <a:custGeom>
            <a:avLst/>
            <a:gdLst/>
            <a:ahLst/>
            <a:rect l="l" t="t" r="r" b="b"/>
            <a:pathLst>
              <a:path w="768" h="672">
                <a:moveTo>
                  <a:pt x="768" y="0"/>
                </a:moveTo>
                <a:cubicBezTo>
                  <a:pt x="640" y="228"/>
                  <a:pt x="512" y="456"/>
                  <a:pt x="432" y="528"/>
                </a:cubicBezTo>
                <a:cubicBezTo>
                  <a:pt x="352" y="600"/>
                  <a:pt x="360" y="408"/>
                  <a:pt x="288" y="432"/>
                </a:cubicBezTo>
                <a:cubicBezTo>
                  <a:pt x="216" y="456"/>
                  <a:pt x="108" y="564"/>
                  <a:pt x="0" y="67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191120" y="2895480"/>
            <a:ext cx="685800" cy="6098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91120" y="2971800"/>
            <a:ext cx="609480" cy="533520"/>
          </a:xfrm>
          <a:prstGeom prst="line">
            <a:avLst/>
          </a:prstGeom>
          <a:ln w="76320">
            <a:solidFill>
              <a:srgbClr val="d3d2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Back to MSN Maps &amp; Directions"/>
          <p:cNvPicPr/>
          <p:nvPr/>
        </p:nvPicPr>
        <p:blipFill>
          <a:blip r:embed="rId9"/>
          <a:stretch/>
        </p:blipFill>
        <p:spPr>
          <a:xfrm>
            <a:off x="2514600" y="1981080"/>
            <a:ext cx="6285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Featuring Microsoft MapPoint Technology"/>
          <p:cNvPicPr/>
          <p:nvPr/>
        </p:nvPicPr>
        <p:blipFill>
          <a:blip r:embed="rId10"/>
          <a:stretch/>
        </p:blipFill>
        <p:spPr>
          <a:xfrm>
            <a:off x="3200400" y="1905120"/>
            <a:ext cx="1314360" cy="257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Map"/>
          <p:cNvPicPr/>
          <p:nvPr/>
        </p:nvPicPr>
        <p:blipFill>
          <a:blip r:embed="rId11"/>
          <a:stretch/>
        </p:blipFill>
        <p:spPr>
          <a:xfrm>
            <a:off x="76320" y="0"/>
            <a:ext cx="5257800" cy="19051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2666880" y="1066680"/>
            <a:ext cx="152640" cy="152640"/>
          </a:xfrm>
          <a:prstGeom prst="irregularSeal1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2">
            <a:lum bright="6000"/>
          </a:blip>
          <a:stretch/>
        </p:blipFill>
        <p:spPr>
          <a:xfrm>
            <a:off x="3352680" y="304920"/>
            <a:ext cx="1295640" cy="527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H="1">
            <a:off x="2819160" y="83808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21:31:54Z</dcterms:created>
  <dc:creator> Vann Weldon</dc:creator>
  <dc:description/>
  <dc:language>en-US</dc:language>
  <cp:lastModifiedBy> Vann Weldon</cp:lastModifiedBy>
  <dcterms:modified xsi:type="dcterms:W3CDTF">2004-01-09T20:21:35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